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728-62E3-4A8C-AB05-FACCD035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CE8-A2FB-48CD-AB48-49BCFC94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5E9-707B-43DD-B115-E3A77C02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621-EF3C-4982-B921-B5E1A492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D77-F7FF-4BDC-A09D-5173332F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A9B-D9BC-4146-94D5-B8752406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137-BA1D-448D-B2BE-42E3921F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BD8-0D21-4CA8-9B32-CEED7EFE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EA4-62DD-4E15-8D49-87F89E59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121-2E46-4DE0-8088-CCC4FBF9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E85-14FE-4F8D-AB95-4219EA3D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4DF-0D4C-4C3E-98F2-ECB3EEBE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1A8A-9DD5-42CD-BC69-409104ADEA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xpo E-Learning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ssione Plenaria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AD e Salvaguardia del Patrimonio Ambientale e Culturale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errara 10 ottobr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La Formazione Ambientale a Distanz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di AP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g. Gaetano Battistella (Responsab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r.ssa Daniela Antonie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r. Claudio La 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rvizio Promozione della Formazione Ambien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In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trodu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attività  APAT per la Formazione Ambi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attività del Servizio per la Promozione della Formazione Ambi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Formazione Ambientale a Distanza di A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Prototipo di Formazione Ambientale a Distanza di A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fer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7. Riferime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WWW.APAT.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FAD@APAT.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0:47:48Z</dcterms:created>
  <dc:creator> </dc:creator>
  <dc:description/>
  <dc:language>en-US</dc:language>
  <cp:lastModifiedBy> </cp:lastModifiedBy>
  <dcterms:modified xsi:type="dcterms:W3CDTF">2006-09-19T14:43:32Z</dcterms:modified>
  <cp:revision>90</cp:revision>
  <dc:subject/>
  <dc:title>Expo E-Learning Sessione Plenaria FAD e Salvaguardia del Patrimonio  Ambientale e Culturale Ferrara 10 ottobre 2004</dc:title>
</cp:coreProperties>
</file>